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4D7-0394-40AB-8C46-C6435C8B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7B3-E646-4C1C-BF13-D4A9088E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8D6-3AEA-45DB-9F27-1363465D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33E-BCDD-411A-9611-ED7D9CB1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03C-AF76-4CB7-A11C-C97FA960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D9F-A9DC-487D-94CF-BEAFE530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EC2-43C7-4C50-9689-E3ECE7DE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A88-1DE0-4FDD-B8AC-59E75775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064-CAFC-47E0-921A-9CCA9E0B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476-F8F4-4B2B-9AED-7F821F2C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F15-AFF4-43CD-80B4-5E1E0404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B2D-C7D8-4BFC-A9D2-E9B7CBEE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1ABE-9059-4B28-9D4D-6F92FB2C6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292720" y="549360"/>
            <a:ext cx="340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9:05:30Z</dcterms:created>
  <dc:creator>WINDOWS</dc:creator>
  <dc:description/>
  <dc:language>en-US</dc:language>
  <cp:lastModifiedBy>WINDOWS</cp:lastModifiedBy>
  <dcterms:modified xsi:type="dcterms:W3CDTF">2011-06-08T19:05:44Z</dcterms:modified>
  <cp:revision>1</cp:revision>
  <dc:subject/>
  <dc:title>Slide 1</dc:title>
</cp:coreProperties>
</file>